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B104-3E7C-462A-8583-F0CA27114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658A-A350-4797-83EA-647810FE0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FE3-F019-4C2D-9AAE-EB928057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E56-C595-4793-8023-267F05EF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9EA1-8FB5-48A8-A502-EB43BCF7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0254-1A71-42E0-B715-C7F963F6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250-0B48-46BB-B753-60E77ACC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B45-74E4-439E-B8FC-D682281E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832-3AFF-4CF9-B2F4-0BF74155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F45-AE16-423B-A18E-356239CE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75B6-8191-4AE8-B19A-5724CDCB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C07-D410-4E43-8651-47175977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7AF-C2C0-4898-A6FD-0AE9613C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7AD-86CD-415A-A285-95C1C8B7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5406-D001-4DCE-ADF8-C058B49B6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УНИВЕРЗИТЕТ У КРАГУЈЕВЦУ</a:t>
            </a:r>
            <a:br>
              <a:rPr sz="1200"/>
            </a:b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ФАКУЛТЕТ МЕДИЦИНСКИХ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26370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овни принципи рада на покретној траци за испитивање физиологије напора пац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чање као модел тренинга пац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647080" y="4869000"/>
            <a:ext cx="3944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Проф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др Владимир Живкови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832840" y="2060640"/>
            <a:ext cx="333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ОКТОРСКЕ АКАДЕМСКЕ СТУД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3132000" y="260280"/>
            <a:ext cx="1690920" cy="1228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Dfso"/>
          <p:cNvPicPr/>
          <p:nvPr/>
        </p:nvPicPr>
        <p:blipFill>
          <a:blip r:embed="rId2"/>
          <a:stretch/>
        </p:blipFill>
        <p:spPr>
          <a:xfrm>
            <a:off x="4859280" y="476280"/>
            <a:ext cx="92556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токол оспособљавања пацова за трчање на покретној трац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ва два дана пацови се постављају да трче на покретну трак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з стимулус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8м/мин) током 1 – 3 мину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раживач све време прати њихово трчање и усмерава их напред у случају да се окрену назад (може се користити штап или четки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една два дана пацови се тренирају да ануче да ће доћи у контакт са ел. решетком (стимулатором) уколико престану да трче (јер се трака све време покреће);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л. стимулација се укључу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цови наредних неколико дана трче са постепеним повећањем брзине трчања до 10м/мин и трајања трчања до 10 мину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ст за одређивање максималне брзин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он петоминутног загревања (8м/мин, 5 мин) подесити брзину траке на 12м/м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зина се потом повећавса на за 4,2 м/мин сваког мину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сималном брзином се сматра највећа брзина коју пацови могу да издрже најмање 1 мину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итеријум за исцрпљењ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трећи контакт са ел. решетком и губитак рефлекса усправљања када се пацов постави на леђ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токол 1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тренинг умереног интензитета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Calibri"/>
              </a:rPr>
              <a:t>Адаптацији на трчањ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трчање брзином од 8m/min 30 минута, једном дневно, 5 х недељ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MIT тренажни процес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rate intensity training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четири недеље 60 минута дневно при чему се постепено повећа брзина (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m/min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1. недеља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m/min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60 минут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недеља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m/min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60 минут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3. недеља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m/min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60 минут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недеља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m/min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60 минут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токол 2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тренинг високог интензитета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Calibri"/>
              </a:rPr>
              <a:t>Адаптацији на трчањ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трчање брзином од 8m/min 30 минута, једном дневно, 5 х недељ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IIT тренажни процес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 intensity interval training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четири недељ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циклуса дневно (90 s трчања/90 s пауза)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 чему се постепено повећа брзина (40-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m/min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1. недеља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/min, 90 s трчања/90 s пауза, 5 циклуса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недеља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/min, 90 s трчања/90 s пауза, 5 циклуса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3. недеља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/min, 90 s трчања/90 s пауза, 5 циклуса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недеља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/min, 90 s трчања/90 s пауза, 5 циклуса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Ð ÐµÐ·ÑÐ»ÑÐ°Ñ ÑÐ»Ð¸ÐºÐ° Ð·Ð° publication"/>
          <p:cNvPicPr/>
          <p:nvPr/>
        </p:nvPicPr>
        <p:blipFill>
          <a:blip r:embed="rId1"/>
          <a:stretch/>
        </p:blipFill>
        <p:spPr>
          <a:xfrm>
            <a:off x="2627280" y="2708280"/>
            <a:ext cx="3889440" cy="2592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2917800" y="1773360"/>
            <a:ext cx="34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УБЛИКА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бликабилна оправданост мо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колико радова у припреми за публикацију н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SCI/CC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и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3 д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кторске дисер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1 докторска дисертација у завршној фа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2 докторске дисертације у фази изра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д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ifferent training models in mices and rats: role of mR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ffects of MIT and HIIT training regimes on cardyodinamic parameters in isolated rat he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КТОРСКЕ ДИСЕР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ршене докторске дисертације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љана Јаковљевић.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Утицај различитих модалитета физичке активности на крвни притисак и функцију миокарда пац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кторске дисертациј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завршној фаз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ељко Прокић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тицај комбиноване примене ергогених средстава и физичке активности високог интензитета на срчану функцију и оксидациони стрес пац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Јелена Ристић. Утицај хроничног прекондиционирања инхибиторима фосфодиестеразе 1 самостално и у комбинацији са физичком активношћу на функционални опоравак изолованог срца пац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чање као експериментални модел физиологије напора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базичне информације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220464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чање се сматра другим најоптималнијим видом физичке активности за пацов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оси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и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чање такође представља природан вид физичке активности пац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изичка активност која се брзо учи (2-3 да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оком последње деценије најчешће коришћен вид за испитивање физиологије напора експерименталних животи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годан модел за одржавање, чишћење, чув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Мотивисаност се учи! (посредована је стимулусом, нпр.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л стру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ије потребан дуг период адаптациј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ије превише стресна активност за пацове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у смањењу ефекта стреса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је важан период адаптације на траку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чање као експериментални модел физиологије напора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специфичне информације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ацови развијају читав низ трикова којима умањују ефективно време трчањ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какутање, стајање, окретање у супротну страну од правца кретања траке ит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то је потребно је водити рачуна да се омогући (готово) искључиво активност трч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и који допринос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скључењу ових адаптибилних форми понашањ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правилно спроведен период адаптације/учења (7 да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континуирани мониторинг испитивача (корекција штапиће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Посебна опасност је могућност повреде услед присуства ел.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с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тимулације на крајевима тра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кретна трака као експериментални модел физиологије напор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pro et contra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Ð ÐµÐ·ÑÐ»ÑÐ°Ñ ÑÐ»Ð¸ÐºÐ° Ð·Ð° pro et contra"/>
          <p:cNvPicPr/>
          <p:nvPr/>
        </p:nvPicPr>
        <p:blipFill>
          <a:blip r:embed="rId1"/>
          <a:stretch/>
        </p:blipFill>
        <p:spPr>
          <a:xfrm>
            <a:off x="3635280" y="1052640"/>
            <a:ext cx="1905120" cy="19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395280" y="3068640"/>
          <a:ext cx="8445600" cy="3032280"/>
        </p:xfrm>
        <a:graphic>
          <a:graphicData uri="http://schemas.openxmlformats.org/drawingml/2006/table">
            <a:tbl>
              <a:tblPr/>
              <a:tblGrid>
                <a:gridCol w="4222800"/>
                <a:gridCol w="4222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тензитет вежбања се може прецизно дозира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гућност озледе на ел. стимулато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д који животиња изврши се може се прецизно квантификова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ша цена уређаја у односу на баз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фтверско дизајнирање и чувањераличитих протокола тренин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икованије коришћење у односу на баз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захтева велики прос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и период адапт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рактеристике траке за трчање пац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3816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адмил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цов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крет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ак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чањ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лагође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томски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изиолошки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рактеристикам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лих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ксперменталних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животи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7320" indent="-517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уж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ој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ункционал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питивањ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изичк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жбањ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нинг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њихов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тицај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личит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изиолошк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толошк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це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73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Treadmill"/>
          <p:cNvPicPr/>
          <p:nvPr/>
        </p:nvPicPr>
        <p:blipFill>
          <a:blip r:embed="rId1"/>
          <a:stretch/>
        </p:blipFill>
        <p:spPr>
          <a:xfrm>
            <a:off x="4427640" y="1733400"/>
            <a:ext cx="4105080" cy="45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рактеристике траке за трчање пац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3816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-442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ст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и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крет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а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4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воје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зуел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за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мпартма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менз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год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цов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иј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лектрич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имулација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ст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гатив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крепље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ћност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зитив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ркепље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рот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а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могуће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дула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агиб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сме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брзине</a:t>
            </a:r>
            <a:br>
              <a:rPr sz="2000"/>
            </a:b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кретањ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трак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као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јачин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стимулу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Treadmill"/>
          <p:cNvPicPr/>
          <p:nvPr/>
        </p:nvPicPr>
        <p:blipFill>
          <a:blip r:embed="rId1"/>
          <a:stretch/>
        </p:blipFill>
        <p:spPr>
          <a:xfrm>
            <a:off x="4427640" y="1733400"/>
            <a:ext cx="4105080" cy="45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рактеристике траке за трчање пац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3816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прављањ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стем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нуел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рект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не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м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дмил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хваљују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могућено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муникаци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чунар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гитал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прављ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менск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грам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моћ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г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апре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финиса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токо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а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уж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еменс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ериод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treadmill"/>
          <p:cNvPicPr/>
          <p:nvPr/>
        </p:nvPicPr>
        <p:blipFill>
          <a:blip r:embed="rId1"/>
          <a:stretch/>
        </p:blipFill>
        <p:spPr>
          <a:xfrm>
            <a:off x="4284720" y="2565360"/>
            <a:ext cx="4464000" cy="28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фтвер траке за трчање пац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Treadmill_software"/>
          <p:cNvPicPr/>
          <p:nvPr/>
        </p:nvPicPr>
        <p:blipFill>
          <a:blip r:embed="rId1"/>
          <a:stretch/>
        </p:blipFill>
        <p:spPr>
          <a:xfrm>
            <a:off x="900000" y="1197000"/>
            <a:ext cx="743436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фтвер траке за трчање пац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Treadmill_software"/>
          <p:cNvPicPr/>
          <p:nvPr/>
        </p:nvPicPr>
        <p:blipFill>
          <a:blip r:embed="rId1"/>
          <a:stretch/>
        </p:blipFill>
        <p:spPr>
          <a:xfrm>
            <a:off x="755640" y="1341360"/>
            <a:ext cx="7488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7:59:30Z</dcterms:created>
  <dc:creator>Vlada Zivkovic</dc:creator>
  <dc:description/>
  <dc:language>en-US</dc:language>
  <cp:lastModifiedBy>Vladimir Zivkovic</cp:lastModifiedBy>
  <dcterms:modified xsi:type="dcterms:W3CDTF">2020-06-07T12:33:39Z</dcterms:modified>
  <cp:revision>226</cp:revision>
  <dc:subject/>
  <dc:title>Slide 1</dc:title>
</cp:coreProperties>
</file>